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F88-F2B3-47D2-BABB-701E57EF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1E6-8063-4005-B5CD-E4B78BE4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73C-600C-406B-9768-35784521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2C8-62AE-4610-B8C7-0F8B6169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66104-ED97-4217-9985-BFF3AADB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1DA63-C746-43F0-A95C-3F4015D1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3AA85-22C7-47AC-A82C-724B15E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B335B-944C-425D-9AD4-52B988E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A0F2-8E1A-4A2B-ACA4-68C1B45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E4F5-DFDE-463E-92B0-FE342F5C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EB55E-6172-4E1C-8D8F-F1E049F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E34-1ACC-4E31-879A-D911A0FA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5F00-4A57-4DF8-9833-D454EBE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AF8F5-EF1B-4B04-9C0F-049841FE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41ADC-914A-49DD-8F9D-3AB0EA5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BB715-79E9-4181-9B22-D7BD9270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9DC1E-9325-4BBA-B81E-70A7473B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EF9-9134-4A5A-AC36-63A2B4EF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82C-D111-4C1D-A138-0BE8062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66A-D779-4BBB-99FB-2CDD802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A09-2366-4E25-930F-FB4969EB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CE7-0D2F-4612-8F5D-6C271FA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E8E-F2E8-42D8-BC96-2F753448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D95-9276-4CEF-8ED3-ABF00AEB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468-A8D3-4BCE-B24D-50722997D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8BE-A0C2-42F4-A00F-C2C3A0478D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Zo9cN5qr4W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assical Civilization: Gree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 2-The Po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an W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72200" y="57150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Key Vocabulary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ropol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itiz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arc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ist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igarch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uncil of El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cr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alan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ian W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s/Places/Batt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a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sistrat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isth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n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ri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ttle of Marath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heidipp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er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mopyla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am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lian Leag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sson Objectiv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he polis and its key fe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e the development of several political systems, including democ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Athens and Sparta; identify their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/Contrast Athens/Sparta (Day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ost-Dorian Ag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eks stopped identifying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CENA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8c9b"/>
                </a:solidFill>
                <a:uFillTx/>
                <a:latin typeface="Tahoma"/>
              </a:rPr>
              <a:t>Associated with local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Poli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8c9b"/>
                </a:solidFill>
                <a:latin typeface="Tahoma"/>
              </a:rPr>
              <a:t>Greek city-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48c9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c9b"/>
                </a:solidFill>
                <a:latin typeface="Tahoma"/>
              </a:rPr>
              <a:t>Ago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open air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48c9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c9b"/>
                </a:solidFill>
                <a:latin typeface="Tahoma"/>
              </a:rPr>
              <a:t>Acropol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ighest point of city; fortif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File:TyreAlMinaAgora.jpg"/>
          <p:cNvPicPr/>
          <p:nvPr/>
        </p:nvPicPr>
        <p:blipFill>
          <a:blip r:embed="rId2"/>
          <a:stretch/>
        </p:blipFill>
        <p:spPr>
          <a:xfrm>
            <a:off x="4857840" y="6858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File:Athens Acropolis.jpg"/>
          <p:cNvPicPr/>
          <p:nvPr/>
        </p:nvPicPr>
        <p:blipFill>
          <a:blip r:embed="rId3"/>
          <a:srcRect l="0" t="23530" r="0" b="29416"/>
          <a:stretch/>
        </p:blipFill>
        <p:spPr>
          <a:xfrm>
            <a:off x="0" y="3962520"/>
            <a:ext cx="9144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solidFill>
            <a:srgbClr val="f1f1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equirem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ree-b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igh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t of assemb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control over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fe"/>
                </a:solidFill>
                <a:latin typeface="Tahoma"/>
              </a:rPr>
              <a:t>Responsibili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fend the polis in times of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871f"/>
                </a:solidFill>
                <a:latin typeface="Tahoma"/>
              </a:rPr>
              <a:t>Women, slaves, foreigners </a:t>
            </a:r>
            <a:r>
              <a:rPr b="0" lang="en-US" sz="2800" spc="-1" strike="noStrike">
                <a:solidFill>
                  <a:srgbClr val="07871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7871f"/>
                </a:solidFill>
                <a:latin typeface="Tahoma"/>
              </a:rPr>
              <a:t> no say in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Callout 1 5"/>
          <p:cNvSpPr/>
          <p:nvPr/>
        </p:nvSpPr>
        <p:spPr>
          <a:xfrm>
            <a:off x="4191120" y="1371600"/>
            <a:ext cx="1828800" cy="1447920"/>
          </a:xfrm>
          <a:prstGeom prst="borderCallout1">
            <a:avLst>
              <a:gd name="adj1" fmla="val 18750"/>
              <a:gd name="adj2" fmla="val -8333"/>
              <a:gd name="adj3" fmla="val 87134"/>
              <a:gd name="adj4" fmla="val -81620"/>
            </a:avLst>
          </a:prstGeom>
          <a:solidFill>
            <a:srgbClr val="010199"/>
          </a:solidFill>
          <a:ln w="19080">
            <a:solidFill>
              <a:srgbClr val="33cccc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avery existed in Greece: Remembe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Aeso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volution of Government in Greec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15973" t="51105" r="15740" b="25165"/>
          <a:stretch/>
        </p:blipFill>
        <p:spPr>
          <a:xfrm>
            <a:off x="0" y="1523880"/>
            <a:ext cx="9144000" cy="333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rcRect l="15973" t="53892" r="66390" b="33224"/>
          <a:stretch/>
        </p:blipFill>
        <p:spPr>
          <a:xfrm>
            <a:off x="3048120" y="1905120"/>
            <a:ext cx="5181480" cy="396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rcRect l="33046" t="53817" r="49885" b="29903"/>
          <a:stretch/>
        </p:blipFill>
        <p:spPr>
          <a:xfrm>
            <a:off x="2666880" y="190512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rcRect l="50118" t="53817" r="32245" b="29903"/>
          <a:stretch/>
        </p:blipFill>
        <p:spPr>
          <a:xfrm>
            <a:off x="2743200" y="1981080"/>
            <a:ext cx="4876920" cy="471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6"/>
          <a:srcRect l="67191" t="54360" r="15740" b="31531"/>
          <a:stretch/>
        </p:blipFill>
        <p:spPr>
          <a:xfrm>
            <a:off x="2743200" y="2057400"/>
            <a:ext cx="5105520" cy="4424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66880" y="2057400"/>
            <a:ext cx="5105520" cy="4572000"/>
          </a:xfrm>
          <a:prstGeom prst="rect">
            <a:avLst/>
          </a:prstGeom>
          <a:solidFill>
            <a:srgbClr val="f8f89e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Tyrann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State ruled by a tyra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Rule based on seizure of absolute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8c9b"/>
                </a:solidFill>
                <a:latin typeface="Tahoma"/>
              </a:rPr>
              <a:t>Makes refor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thens and Sparta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examples of the Greek polis and each of the various forms of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ction Button: Forward or Next 5">
            <a:hlinkClick r:id="rId2"/>
          </p:cNvPr>
          <p:cNvSpPr/>
          <p:nvPr/>
        </p:nvSpPr>
        <p:spPr>
          <a:xfrm rot="20194800">
            <a:off x="5322960" y="4027320"/>
            <a:ext cx="2819160" cy="914400"/>
          </a:xfrm>
          <a:custGeom>
            <a:avLst/>
            <a:gdLst>
              <a:gd name="textAreaLeft" fmla="*/ 59040 w 2819160"/>
              <a:gd name="textAreaRight" fmla="*/ 2760120 w 2819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6577" h="21600">
                <a:moveTo>
                  <a:pt x="0" y="0"/>
                </a:moveTo>
                <a:lnTo>
                  <a:pt x="66577" y="0"/>
                </a:lnTo>
                <a:lnTo>
                  <a:pt x="66577" y="21600"/>
                </a:lnTo>
                <a:lnTo>
                  <a:pt x="0" y="21600"/>
                </a:lnTo>
                <a:close/>
              </a:path>
              <a:path fill="lightenLess" w="66577" h="21600">
                <a:moveTo>
                  <a:pt x="0" y="0"/>
                </a:moveTo>
                <a:lnTo>
                  <a:pt x="66577" y="0"/>
                </a:lnTo>
                <a:lnTo>
                  <a:pt x="65177" y="1400"/>
                </a:lnTo>
                <a:lnTo>
                  <a:pt x="1400" y="1400"/>
                </a:lnTo>
                <a:close/>
              </a:path>
              <a:path fill="darken" w="66577" h="21600">
                <a:moveTo>
                  <a:pt x="66577" y="0"/>
                </a:moveTo>
                <a:lnTo>
                  <a:pt x="66577" y="21600"/>
                </a:lnTo>
                <a:lnTo>
                  <a:pt x="65177" y="20200"/>
                </a:lnTo>
                <a:lnTo>
                  <a:pt x="65177" y="1400"/>
                </a:lnTo>
                <a:close/>
              </a:path>
              <a:path fill="darkenLess" w="66577" h="21600">
                <a:moveTo>
                  <a:pt x="6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77" y="20200"/>
                </a:lnTo>
                <a:close/>
              </a:path>
              <a:path fill="lighten" w="6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577" h="21600">
                <a:moveTo>
                  <a:pt x="26282" y="3794"/>
                </a:moveTo>
                <a:lnTo>
                  <a:pt x="40295" y="10800"/>
                </a:lnTo>
                <a:lnTo>
                  <a:pt x="26282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523880" y="3124080"/>
            <a:ext cx="3581640" cy="3020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2373"/>
                </a:solidFill>
                <a:latin typeface="Tahoma"/>
              </a:rPr>
              <a:t>REVIEW</a:t>
            </a:r>
            <a:r>
              <a:rPr b="1" i="1" lang="en-US" sz="2400" spc="-1" strike="noStrike">
                <a:solidFill>
                  <a:srgbClr val="51237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512373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The impact of geography on Gre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512373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The basic structure of a po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12373"/>
                </a:solidFill>
                <a:latin typeface="Tahoma"/>
              </a:rPr>
              <a:t>PREVIEW</a:t>
            </a:r>
            <a:r>
              <a:rPr b="1" i="1" lang="en-US" sz="2400" spc="-1" strike="noStrike">
                <a:solidFill>
                  <a:srgbClr val="51237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ahoma"/>
              </a:rPr>
              <a:t>1) The values of Athens and Spa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ading for Info Activity,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trategy: 2-Column Not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4206960" cy="525780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4443480" y="1676520"/>
            <a:ext cx="4700520" cy="38862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53:21Z</dcterms:created>
  <dc:creator>cpagliaro</dc:creator>
  <dc:description/>
  <dc:language>en-US</dc:language>
  <cp:lastModifiedBy>cpagliaro</cp:lastModifiedBy>
  <dcterms:modified xsi:type="dcterms:W3CDTF">2010-11-17T15:32:54Z</dcterms:modified>
  <cp:revision>10</cp:revision>
  <dc:subject/>
  <dc:title>Classical Civilization: Greece</dc:title>
</cp:coreProperties>
</file>